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F1601-73F9-46CF-AED8-93827C31B3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330C7-FFE9-4F78-8A57-BD3D2191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BAC1A-2764-4EFC-ABEE-9B4A5723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90B48-F633-42A1-BE37-CF76317DFB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0C691-AB2A-40C1-AB74-705BB59D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BA260-27BF-4A62-9EF6-EA4A043E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4C218-4EE5-4143-87D0-F8FEAF21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9D645-8A5F-4674-892A-976EBFE0D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2E308-DF36-4138-8D73-36207B136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01C03-457C-400D-99A6-36BA3FCE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3B3E8-5C5B-4D88-8BB4-95870783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02F46-9D94-4957-8304-9A2F5361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7A4C-A055-4F85-8593-1CF5908194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00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疗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量饮水和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、抗感染、药物排石、调节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调节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xtracorporeal shock wave lithotrips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SW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输尿管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皮肾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镜输尿管取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结石引起肾盂输尿管连接处或输尿管急性梗阻、扩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有关结石的病因、治疗及预防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尿、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结石，接受了体外冲击波碎石术治疗。术后患者出现腰部疼痛，伴恶心、呕吐及尿频、尿急、尿痛和发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输尿管下段呈串珠状致密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出现了何种问题？原因是什么？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或消除肾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调节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各项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的治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盂造瘘管应妥善固定，保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输尿管镜取石的患者，输尿管壁可能发生水肿或排尿功能障碍，需留置双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J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尿管支架管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及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尿石症的病因、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尿石症的病理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尿石症患者的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尿石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危险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是多因素所致，包括年龄、性别、职业、饮食、水的摄入量、地理环境、气候、代谢紊乱和遗传性疾病等流行病学因素，以及尿液改变和泌尿系统局部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表现为疼痛，血尿；膀胱结石表现为排尿突然中断并疼痛；尿道结石表现为排尿困难、点滴状排尿伴尿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非手术治疗和手术治疗，以非手术治疗中的体外冲击波碎石术为首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包括减轻或消除肾绞痛、促进排石、饮食调节、药物治疗、观察排石效果。体外冲击波碎石术术前要做好宣教，完善各项检查，做好必要的治疗前准备；术后护理做好体位与活动、饮食饮水、并发症的观察与处理，观察排石情况。对非开放性手术患者应做好体位、饮水、观察尿液和引流管护理。对开放性手术患者应做好观察病情、保持呼吸道通畅、预防感染、切口及引流管的护理和指导活动。另外，还要做好健康教育预防结石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尿路结石，是泌尿系统的常见病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结石所在的部位可分为上尿路结石和下尿路结石。上尿路结石包括肾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输尿管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e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下尿路结石包括膀胱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vesic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尿道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h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临床上以上尿路结石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结石的形成机制尚未完全清楚，可能是多种影响因素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流行病学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泌尿系统局部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突发右腰部疼痛，阵发性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余。疼痛呈绞痛样，伴恶心、呕吐，疼痛向中下腹放射，伴尿频、尿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 / 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清楚，表情痛苦，辗转卧位。右肾区叩击痛，右中腹有压痛，无反跳痛，无明显腹肌紧张，移动性浊音阴性，肠鸣音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：肾绞痛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nal coli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突然中断并疼痛，疼痛放射至阴茎头部和远端尿道，伴排尿困难和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道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困难、点滴状排尿伴尿痛，重者可发生急性尿潴留及会阴部剧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常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泌尿系统平片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KU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镜、输尿管镜和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、生活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、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0:14Z</dcterms:modified>
  <cp:revision>112</cp:revision>
  <dc:subject/>
  <dc:title>内科护理学</dc:title>
</cp:coreProperties>
</file>